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2A19B-C28E-4060-B7E9-02BE66CCAF49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 Calculus 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derivative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ial Equation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Slope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 Calculus A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iderivatives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erential Equations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Slope Fiel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we are only finding indefinite solutions, we must indicate the ambiguity of the const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ally, this is done through using a letter to represent any constant.  Generally, we use 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erential Equa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nce we are only finding indefinite solutions, we must indicate the ambiguity of the constant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rmally, this is done through using a letter to represent any constant.  Generally, we use C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erential Equa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lv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ope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 the follow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ppoCamp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ope Fiel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ider the following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ppoCampu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ope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lope field shows the general “flow” of a differential equation’s solu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ten, slope fields are used in lieu of actually solving differential equ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ope Fiel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slope field shows the general “flow” of a differential equation’s solu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ten, slope fields are used in lieu of actually solving differential equation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ope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onstruct a slope field, start with a differential equation.  For simplicity’s sake we’ll use                          Slope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her than solving the differential equation, we’ll construct a slope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ck points in the coordinate pl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g in the x and y val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sult is the slope of the tangent line at that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ope Fiel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 construct a slope field, start with a differential equation.  For simplicity’s sake we’ll use                          Slope Fiel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ther than solving the differential equation, we’ll construct a slope fiel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ick points in the coordinate plan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ug in the x and y valu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result is the slope of the tangent line at that poi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ope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ice that since there is no y in our equation, horizontal rows all contain parallel segments.  The same would be true for vertical columns if there were no 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 a slope field for               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ope Fiel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ice that since there is no y in our equation, horizontal rows all contain parallel segments.  The same would be true for vertical columns if there were no x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truct a slope field for                    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 the eq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ider the equ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deriva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n inverse oper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inclu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tion and subt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ication and di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onents and logarith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iderivativ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at is an inverse operation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s include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ition and subtrac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ltiplication and divis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onents and logarithm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deriva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iation also has an inverse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defferent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iderivativ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erentiation also has an inverse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idefferenti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deriva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 the function       whose derivative is given by          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          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ay that           is an antiderivative of     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iderivativ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ider the function       whose derivative is given by               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at is            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 say that           is an antiderivative of          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deriva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ice that we say            is an antiderivative and not the antiderivative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           is an antiderivative of          , we ca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y that                     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                            and                             , f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    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iderivativ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ice that we say            is an antiderivative and not the antiderivative.  Why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nce            is an antiderivative of          , we can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y that                          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                             and                             , fi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         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all the earlier equation         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called a differential equation and could also be written as               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think of solving a differential equation as being similar to solving any other equ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erential Equa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call the earlier equation              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is called a differential equation and could also be written as                    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 can think of solving a differential equation as being similar to solving any other equ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ing to find y as a function of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only find indefinite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erential Equa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ying to find y as a function of 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n only find indefinite solu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wo basic steps to follow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 Isolate the differ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rt both sides…in other words, f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tideriv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erential Equa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re are two basic steps to follow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  Isolate the differentia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rt both sides…in other words, fi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antiderivativ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C7A1-9A3B-493A-B512-05E663065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A540-275A-44AB-8CDE-6C63D1846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E261-6E97-4DA1-807F-797ACC2B0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927E-82DF-4068-ADBC-F021DEA26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61A3-1E2B-42C1-891A-AFC124CDC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4CA2-7D21-4529-BA8F-EFF9E6DC2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963C-A2C6-432B-A434-91FB6F8A2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B732-2DC8-4D7A-B9B7-57F455844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0525-A19F-4B32-8055-501D8DEAC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C2B8-A02E-4E83-B8C6-693D75ED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BE29-95FB-42E1-92A9-C3FC8966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9906-C28A-483B-B3C5-205915A2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252FC-AE26-4072-9AC8-166AD164B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7">
            <a:hlinkClick r:id="" action="ppaction://hlinkshowjump?jump=firstslide"/>
          </p:cNvPr>
          <p:cNvSpPr/>
          <p:nvPr/>
        </p:nvSpPr>
        <p:spPr>
          <a:xfrm>
            <a:off x="0" y="58672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14" h="21600">
                <a:moveTo>
                  <a:pt x="12957" y="3837"/>
                </a:moveTo>
                <a:lnTo>
                  <a:pt x="15533" y="6448"/>
                </a:lnTo>
                <a:lnTo>
                  <a:pt x="15533" y="4707"/>
                </a:lnTo>
                <a:lnTo>
                  <a:pt x="17309" y="4707"/>
                </a:lnTo>
                <a:lnTo>
                  <a:pt x="17309" y="8224"/>
                </a:lnTo>
                <a:lnTo>
                  <a:pt x="19920" y="10800"/>
                </a:lnTo>
                <a:lnTo>
                  <a:pt x="18266" y="10800"/>
                </a:lnTo>
                <a:lnTo>
                  <a:pt x="18266" y="17989"/>
                </a:lnTo>
                <a:lnTo>
                  <a:pt x="7648" y="17989"/>
                </a:lnTo>
                <a:lnTo>
                  <a:pt x="7648" y="10800"/>
                </a:lnTo>
                <a:lnTo>
                  <a:pt x="5994" y="10800"/>
                </a:lnTo>
                <a:close/>
              </a:path>
              <a:path fill="darkenLess" w="25914" h="21600">
                <a:moveTo>
                  <a:pt x="15533" y="6448"/>
                </a:moveTo>
                <a:lnTo>
                  <a:pt x="15533" y="4707"/>
                </a:lnTo>
                <a:lnTo>
                  <a:pt x="17309" y="4707"/>
                </a:lnTo>
                <a:lnTo>
                  <a:pt x="17309" y="8224"/>
                </a:lnTo>
                <a:close/>
              </a:path>
              <a:path fill="darkenLess" w="25914" h="21600">
                <a:moveTo>
                  <a:pt x="12034" y="14299"/>
                </a:moveTo>
                <a:lnTo>
                  <a:pt x="13880" y="14299"/>
                </a:lnTo>
                <a:lnTo>
                  <a:pt x="13880" y="17989"/>
                </a:lnTo>
                <a:lnTo>
                  <a:pt x="18266" y="17989"/>
                </a:lnTo>
                <a:lnTo>
                  <a:pt x="18266" y="10800"/>
                </a:lnTo>
                <a:lnTo>
                  <a:pt x="7648" y="10800"/>
                </a:lnTo>
                <a:lnTo>
                  <a:pt x="7648" y="17989"/>
                </a:lnTo>
                <a:lnTo>
                  <a:pt x="12034" y="17989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8">
            <a:hlinkClick r:id="" action="ppaction://hlinkshowjump?jump=nextslide"/>
          </p:cNvPr>
          <p:cNvSpPr/>
          <p:nvPr/>
        </p:nvSpPr>
        <p:spPr>
          <a:xfrm>
            <a:off x="7772400" y="5943600"/>
            <a:ext cx="1066680" cy="685800"/>
          </a:xfrm>
          <a:custGeom>
            <a:avLst/>
            <a:gdLst>
              <a:gd name="textAreaLeft" fmla="*/ 44280 w 1066680"/>
              <a:gd name="textAreaRight" fmla="*/ 1022400 w 10666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590" h="21600">
                <a:moveTo>
                  <a:pt x="0" y="0"/>
                </a:moveTo>
                <a:lnTo>
                  <a:pt x="33590" y="0"/>
                </a:lnTo>
                <a:lnTo>
                  <a:pt x="33590" y="21600"/>
                </a:lnTo>
                <a:lnTo>
                  <a:pt x="0" y="21600"/>
                </a:lnTo>
                <a:close/>
              </a:path>
              <a:path fill="lightenLess" w="33590" h="21600">
                <a:moveTo>
                  <a:pt x="0" y="0"/>
                </a:moveTo>
                <a:lnTo>
                  <a:pt x="33590" y="0"/>
                </a:lnTo>
                <a:lnTo>
                  <a:pt x="32190" y="1400"/>
                </a:lnTo>
                <a:lnTo>
                  <a:pt x="1400" y="1400"/>
                </a:lnTo>
                <a:close/>
              </a:path>
              <a:path fill="darken" w="33590" h="21600">
                <a:moveTo>
                  <a:pt x="33590" y="0"/>
                </a:moveTo>
                <a:lnTo>
                  <a:pt x="33590" y="21600"/>
                </a:lnTo>
                <a:lnTo>
                  <a:pt x="32190" y="20200"/>
                </a:lnTo>
                <a:lnTo>
                  <a:pt x="32190" y="1400"/>
                </a:lnTo>
                <a:close/>
              </a:path>
              <a:path fill="darkenLess" w="33590" h="21600">
                <a:moveTo>
                  <a:pt x="335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0" y="20200"/>
                </a:lnTo>
                <a:close/>
              </a:path>
              <a:path fill="lighten" w="335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90" h="21600">
                <a:moveTo>
                  <a:pt x="9788" y="3794"/>
                </a:moveTo>
                <a:lnTo>
                  <a:pt x="23801" y="10800"/>
                </a:lnTo>
                <a:lnTo>
                  <a:pt x="9788" y="17806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P Calculus AB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ntiderivatives,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Differential Equations,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nd Slope Field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Differential Equation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nce we are only finding indefinite solutions, we must indicate the ambiguity of the constant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Normally, this is done through using a letter to represent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any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onstant.  Generally, we use C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9"/>
          <p:cNvSpPr/>
          <p:nvPr/>
        </p:nvSpPr>
        <p:spPr>
          <a:xfrm>
            <a:off x="6324480" y="29718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Differential Equation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olve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1981080" y="1447920"/>
                <a:ext cx="60192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5"/>
              <p:cNvSpPr txBox="1"/>
              <p:nvPr/>
            </p:nvSpPr>
            <p:spPr>
              <a:xfrm>
                <a:off x="2517840" y="1743120"/>
                <a:ext cx="83484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6"/>
              <p:cNvSpPr txBox="1"/>
              <p:nvPr/>
            </p:nvSpPr>
            <p:spPr>
              <a:xfrm>
                <a:off x="2209680" y="2743200"/>
                <a:ext cx="17719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AutoShape 8"/>
          <p:cNvSpPr/>
          <p:nvPr/>
        </p:nvSpPr>
        <p:spPr>
          <a:xfrm>
            <a:off x="6324480" y="2819520"/>
            <a:ext cx="1067040" cy="685800"/>
          </a:xfrm>
          <a:custGeom>
            <a:avLst/>
            <a:gdLst>
              <a:gd name="textAreaLeft" fmla="*/ 44280 w 1067040"/>
              <a:gd name="textAreaRight" fmla="*/ 1022760 w 10670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601" h="21600">
                <a:moveTo>
                  <a:pt x="0" y="0"/>
                </a:moveTo>
                <a:lnTo>
                  <a:pt x="33601" y="0"/>
                </a:lnTo>
                <a:lnTo>
                  <a:pt x="33601" y="21600"/>
                </a:lnTo>
                <a:lnTo>
                  <a:pt x="0" y="21600"/>
                </a:lnTo>
                <a:close/>
              </a:path>
              <a:path fill="lightenLess" w="33601" h="21600">
                <a:moveTo>
                  <a:pt x="0" y="0"/>
                </a:moveTo>
                <a:lnTo>
                  <a:pt x="33601" y="0"/>
                </a:lnTo>
                <a:lnTo>
                  <a:pt x="32201" y="1400"/>
                </a:lnTo>
                <a:lnTo>
                  <a:pt x="1400" y="1400"/>
                </a:lnTo>
                <a:close/>
              </a:path>
              <a:path fill="darken" w="33601" h="21600">
                <a:moveTo>
                  <a:pt x="33601" y="0"/>
                </a:moveTo>
                <a:lnTo>
                  <a:pt x="33601" y="21600"/>
                </a:lnTo>
                <a:lnTo>
                  <a:pt x="32201" y="20200"/>
                </a:lnTo>
                <a:lnTo>
                  <a:pt x="32201" y="1400"/>
                </a:lnTo>
                <a:close/>
              </a:path>
              <a:path fill="darkenLess" w="33601" h="21600">
                <a:moveTo>
                  <a:pt x="336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01" y="20200"/>
                </a:lnTo>
                <a:close/>
              </a:path>
              <a:path fill="lighten" w="336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75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Slope Field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onsider the following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HippoCampu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Slope Field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slope field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shows the general “flow” of a differential equation’s solution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Often, slope fields are used in lieu of actually solving differential equations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Slope Field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o construct a slope field, start with a differential equation.  For simplicity’s sake we’ll use                          Slope Fields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Rather than solving the differential equation, we’ll construct a slope field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Pick points in the coordinate plane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Plug in the x and y values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e result is the slope of the tangent line at that point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4"/>
              <p:cNvSpPr txBox="1"/>
              <p:nvPr/>
            </p:nvSpPr>
            <p:spPr>
              <a:xfrm>
                <a:off x="1447920" y="2503440"/>
                <a:ext cx="19746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xdx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Slope Field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Notice that since there is no y in our equation, horizontal rows all contain parallel segments.  The same would be true for vertical columns if there were no x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Construct a slope field for                     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4"/>
              <p:cNvSpPr txBox="1"/>
              <p:nvPr/>
            </p:nvSpPr>
            <p:spPr>
              <a:xfrm>
                <a:off x="5122800" y="3678120"/>
                <a:ext cx="165888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6"/>
          <p:cNvSpPr/>
          <p:nvPr/>
        </p:nvSpPr>
        <p:spPr>
          <a:xfrm>
            <a:off x="4495680" y="26668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Review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Consider the equation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7"/>
              <p:cNvSpPr txBox="1"/>
              <p:nvPr/>
            </p:nvSpPr>
            <p:spPr>
              <a:xfrm>
                <a:off x="4495680" y="1523880"/>
                <a:ext cx="116208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56" name="Object 11"/>
          <p:cNvGraphicFramePr/>
          <p:nvPr/>
        </p:nvGraphicFramePr>
        <p:xfrm>
          <a:off x="2743200" y="2590920"/>
          <a:ext cx="534960" cy="46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590920"/>
                    <a:ext cx="53496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" name="Group 14"/>
          <p:cNvGrpSpPr/>
          <p:nvPr/>
        </p:nvGrpSpPr>
        <p:grpSpPr>
          <a:xfrm>
            <a:off x="609480" y="2400480"/>
            <a:ext cx="2133720" cy="952200"/>
            <a:chOff x="609480" y="2400480"/>
            <a:chExt cx="2133720" cy="952200"/>
          </a:xfrm>
        </p:grpSpPr>
        <p:graphicFrame>
          <p:nvGraphicFramePr>
            <p:cNvPr id="59" name="Object 8"/>
            <p:cNvGraphicFramePr/>
            <p:nvPr/>
          </p:nvGraphicFramePr>
          <p:xfrm>
            <a:off x="1914480" y="2400480"/>
            <a:ext cx="828720" cy="952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0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14480" y="2400480"/>
                      <a:ext cx="828720" cy="952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1" name="Rectangle 12"/>
            <p:cNvSpPr/>
            <p:nvPr/>
          </p:nvSpPr>
          <p:spPr>
            <a:xfrm>
              <a:off x="609480" y="2590920"/>
              <a:ext cx="13716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Georg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Georgia"/>
                </a:rPr>
                <a:t>Find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Georg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Georg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AutoShape 15"/>
          <p:cNvSpPr/>
          <p:nvPr/>
        </p:nvSpPr>
        <p:spPr>
          <a:xfrm>
            <a:off x="4495680" y="2590920"/>
            <a:ext cx="1067040" cy="685800"/>
          </a:xfrm>
          <a:custGeom>
            <a:avLst/>
            <a:gdLst>
              <a:gd name="textAreaLeft" fmla="*/ 44280 w 1067040"/>
              <a:gd name="textAreaRight" fmla="*/ 1022760 w 10670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601" h="21600">
                <a:moveTo>
                  <a:pt x="0" y="0"/>
                </a:moveTo>
                <a:lnTo>
                  <a:pt x="33601" y="0"/>
                </a:lnTo>
                <a:lnTo>
                  <a:pt x="33601" y="21600"/>
                </a:lnTo>
                <a:lnTo>
                  <a:pt x="0" y="21600"/>
                </a:lnTo>
                <a:close/>
              </a:path>
              <a:path fill="lightenLess" w="33601" h="21600">
                <a:moveTo>
                  <a:pt x="0" y="0"/>
                </a:moveTo>
                <a:lnTo>
                  <a:pt x="33601" y="0"/>
                </a:lnTo>
                <a:lnTo>
                  <a:pt x="32201" y="1400"/>
                </a:lnTo>
                <a:lnTo>
                  <a:pt x="1400" y="1400"/>
                </a:lnTo>
                <a:close/>
              </a:path>
              <a:path fill="darken" w="33601" h="21600">
                <a:moveTo>
                  <a:pt x="33601" y="0"/>
                </a:moveTo>
                <a:lnTo>
                  <a:pt x="33601" y="21600"/>
                </a:lnTo>
                <a:lnTo>
                  <a:pt x="32201" y="20200"/>
                </a:lnTo>
                <a:lnTo>
                  <a:pt x="32201" y="1400"/>
                </a:lnTo>
                <a:close/>
              </a:path>
              <a:path fill="darkenLess" w="33601" h="21600">
                <a:moveTo>
                  <a:pt x="336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01" y="20200"/>
                </a:lnTo>
                <a:close/>
              </a:path>
              <a:path fill="lighten" w="336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ntiderivative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What is an inverse operation?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457200" y="24382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Examples includ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838080" y="31240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ddition and subtra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838080" y="3657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Multiplication and divi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838080" y="41911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Exponents and logarith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24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ntiderivative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Differentiation also has an inverse…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457200" y="34290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Georgia"/>
              </a:rPr>
              <a:t>antidefferentiation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41" nodeType="clickEffect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ntiderivative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Consider the function       whose derivative is given by                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hat is            ?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4"/>
              <p:cNvSpPr txBox="1"/>
              <p:nvPr/>
            </p:nvSpPr>
            <p:spPr>
              <a:xfrm>
                <a:off x="4343400" y="1555920"/>
                <a:ext cx="50148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6"/>
              <p:cNvSpPr txBox="1"/>
              <p:nvPr/>
            </p:nvSpPr>
            <p:spPr>
              <a:xfrm>
                <a:off x="1295280" y="2038320"/>
                <a:ext cx="141624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8"/>
              <p:cNvSpPr txBox="1"/>
              <p:nvPr/>
            </p:nvSpPr>
            <p:spPr>
              <a:xfrm>
                <a:off x="2184480" y="2971800"/>
                <a:ext cx="93960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10"/>
              <p:cNvSpPr txBox="1"/>
              <p:nvPr/>
            </p:nvSpPr>
            <p:spPr>
              <a:xfrm>
                <a:off x="2743200" y="4033800"/>
                <a:ext cx="93996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11"/>
              <p:cNvSpPr txBox="1"/>
              <p:nvPr/>
            </p:nvSpPr>
            <p:spPr>
              <a:xfrm>
                <a:off x="7162920" y="3957480"/>
                <a:ext cx="93960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9" name="Text Box 13"/>
          <p:cNvSpPr/>
          <p:nvPr/>
        </p:nvSpPr>
        <p:spPr>
          <a:xfrm>
            <a:off x="6324480" y="29718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2"/>
          <p:cNvSpPr/>
          <p:nvPr/>
        </p:nvSpPr>
        <p:spPr>
          <a:xfrm>
            <a:off x="6248520" y="2819520"/>
            <a:ext cx="1066680" cy="685800"/>
          </a:xfrm>
          <a:custGeom>
            <a:avLst/>
            <a:gdLst>
              <a:gd name="textAreaLeft" fmla="*/ 44280 w 1066680"/>
              <a:gd name="textAreaRight" fmla="*/ 1022400 w 10666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590" h="21600">
                <a:moveTo>
                  <a:pt x="0" y="0"/>
                </a:moveTo>
                <a:lnTo>
                  <a:pt x="33590" y="0"/>
                </a:lnTo>
                <a:lnTo>
                  <a:pt x="33590" y="21600"/>
                </a:lnTo>
                <a:lnTo>
                  <a:pt x="0" y="21600"/>
                </a:lnTo>
                <a:close/>
              </a:path>
              <a:path fill="lightenLess" w="33590" h="21600">
                <a:moveTo>
                  <a:pt x="0" y="0"/>
                </a:moveTo>
                <a:lnTo>
                  <a:pt x="33590" y="0"/>
                </a:lnTo>
                <a:lnTo>
                  <a:pt x="32190" y="1400"/>
                </a:lnTo>
                <a:lnTo>
                  <a:pt x="1400" y="1400"/>
                </a:lnTo>
                <a:close/>
              </a:path>
              <a:path fill="darken" w="33590" h="21600">
                <a:moveTo>
                  <a:pt x="33590" y="0"/>
                </a:moveTo>
                <a:lnTo>
                  <a:pt x="33590" y="21600"/>
                </a:lnTo>
                <a:lnTo>
                  <a:pt x="32190" y="20200"/>
                </a:lnTo>
                <a:lnTo>
                  <a:pt x="32190" y="1400"/>
                </a:lnTo>
                <a:close/>
              </a:path>
              <a:path fill="darkenLess" w="33590" h="21600">
                <a:moveTo>
                  <a:pt x="335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0" y="20200"/>
                </a:lnTo>
                <a:close/>
              </a:path>
              <a:path fill="lighten" w="335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4"/>
          <p:cNvSpPr/>
          <p:nvPr/>
        </p:nvSpPr>
        <p:spPr>
          <a:xfrm>
            <a:off x="144000" y="4052880"/>
            <a:ext cx="832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e say that           is an antiderivative of           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Object 15"/>
          <p:cNvGraphicFramePr/>
          <p:nvPr/>
        </p:nvGraphicFramePr>
        <p:xfrm>
          <a:off x="3567240" y="2917800"/>
          <a:ext cx="184284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7240" y="2917800"/>
                    <a:ext cx="184284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6" dur="indefinite" restart="never" nodeType="tmRoot">
          <p:childTnLst>
            <p:seq>
              <p:cTn id="47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48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53" nodeType="clickEffect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ntiderivative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Notice that we say            is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an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antiderivative and not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the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antiderivative.  Why?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ince            is an antiderivative of          , we can 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ay that                           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f                             and                             , find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            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and           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4"/>
              <p:cNvSpPr txBox="1"/>
              <p:nvPr/>
            </p:nvSpPr>
            <p:spPr>
              <a:xfrm>
                <a:off x="3759120" y="1523880"/>
                <a:ext cx="96516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6"/>
              <p:cNvSpPr txBox="1"/>
              <p:nvPr/>
            </p:nvSpPr>
            <p:spPr>
              <a:xfrm>
                <a:off x="1778040" y="2819520"/>
                <a:ext cx="96516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Object 8"/>
              <p:cNvSpPr txBox="1"/>
              <p:nvPr/>
            </p:nvSpPr>
            <p:spPr>
              <a:xfrm>
                <a:off x="6172200" y="2814480"/>
                <a:ext cx="93996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9"/>
              <p:cNvSpPr txBox="1"/>
              <p:nvPr/>
            </p:nvSpPr>
            <p:spPr>
              <a:xfrm>
                <a:off x="2141640" y="3348000"/>
                <a:ext cx="227808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10"/>
              <p:cNvSpPr txBox="1"/>
              <p:nvPr/>
            </p:nvSpPr>
            <p:spPr>
              <a:xfrm>
                <a:off x="1219320" y="4226040"/>
                <a:ext cx="23493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11"/>
              <p:cNvSpPr txBox="1"/>
              <p:nvPr/>
            </p:nvSpPr>
            <p:spPr>
              <a:xfrm>
                <a:off x="4343400" y="4191120"/>
                <a:ext cx="24573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12"/>
              <p:cNvSpPr txBox="1"/>
              <p:nvPr/>
            </p:nvSpPr>
            <p:spPr>
              <a:xfrm>
                <a:off x="762120" y="5100480"/>
                <a:ext cx="90324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13"/>
              <p:cNvSpPr txBox="1"/>
              <p:nvPr/>
            </p:nvSpPr>
            <p:spPr>
              <a:xfrm>
                <a:off x="2438280" y="5181480"/>
                <a:ext cx="83196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Differential Equation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Recall the earlier equation               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is is called a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differential equation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and could also be written as                     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e can think of solving a differential equation as being similar to solving any other equation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4"/>
              <p:cNvSpPr txBox="1"/>
              <p:nvPr/>
            </p:nvSpPr>
            <p:spPr>
              <a:xfrm>
                <a:off x="5105520" y="1371600"/>
                <a:ext cx="60156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5"/>
              <p:cNvSpPr txBox="1"/>
              <p:nvPr/>
            </p:nvSpPr>
            <p:spPr>
              <a:xfrm>
                <a:off x="5641920" y="1666800"/>
                <a:ext cx="83520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6"/>
              <p:cNvSpPr txBox="1"/>
              <p:nvPr/>
            </p:nvSpPr>
            <p:spPr>
              <a:xfrm>
                <a:off x="3657600" y="3048120"/>
                <a:ext cx="17524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xdx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Differential Equation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rying to find y as a function of x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457200" y="2666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an only find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indefinite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olu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Differential Equation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re are two basic steps to follow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914400" y="24382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1.  Isolate the differenti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914400" y="32767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7000"/>
          </a:bodyPr>
          <a:p>
            <a:pPr marL="286200" indent="-286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nvert both sides…in other words, fin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6200" indent="-286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antideriva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5:59:17Z</dcterms:created>
  <dc:creator>EBRPSS</dc:creator>
  <dc:description/>
  <dc:language>en-US</dc:language>
  <cp:lastModifiedBy>RomaK</cp:lastModifiedBy>
  <dcterms:modified xsi:type="dcterms:W3CDTF">2015-09-04T07:36:28Z</dcterms:modified>
  <cp:revision>21</cp:revision>
  <dc:subject/>
  <dc:title>AP Calculus AB</dc:title>
</cp:coreProperties>
</file>